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707-735B-4032-9D33-CE771898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C32-5F17-4A2D-8AE5-5278F23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BDA-2855-4FD4-AA16-9D2E2568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1D5-8112-4511-92C2-A44F15AA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27D-CEEF-4421-A7DA-CDC1A60F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BEC-CC60-49D1-B57C-F3995263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D6F-CDD0-400C-B4C3-6665DBD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271-89D9-4B60-896B-A2C1C446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5E6-A36B-424C-905D-A346F1A0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49C-670C-41D7-894B-6BB9BE3F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361-6EB9-4697-8A8D-4DC3D52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D87-5B9E-4EE9-A07C-E3836CE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A98-D662-47DF-A4E1-988C426C6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3440" y="1917720"/>
                <a:ext cx="76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574640" y="1566720"/>
                <a:ext cx="6271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28840" y="3025800"/>
                <a:ext cx="82368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73320" y="160668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086280" y="3024360"/>
                <a:ext cx="8427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445520" y="1330200"/>
                <a:ext cx="7808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00240" y="239400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60640" y="153684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36760" y="1633680"/>
                <a:ext cx="5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14720" y="3852720"/>
                <a:ext cx="617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92400" y="30672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52960" y="311940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624560" y="19270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90960" y="4680000"/>
                <a:ext cx="8953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78080" y="5710320"/>
                <a:ext cx="784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948120" y="517032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21200" y="4654440"/>
                <a:ext cx="6177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838760" y="5635800"/>
                <a:ext cx="785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499000" y="4713120"/>
                <a:ext cx="952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475240" y="5562720"/>
                <a:ext cx="954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500880" y="5172120"/>
                <a:ext cx="952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429680" y="465444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461360" y="563400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5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574640" y="1566720"/>
                <a:ext cx="6271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57360" y="3025800"/>
                <a:ext cx="5666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021120" y="157176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033720" y="3024360"/>
                <a:ext cx="9478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403960" y="1760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100240" y="239400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60640" y="153684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09760" y="1538280"/>
                <a:ext cx="5590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58920" y="382572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36600" y="304020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03560" y="306720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57560" y="4808520"/>
                <a:ext cx="784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391520" y="1716120"/>
                <a:ext cx="893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88120" y="1738440"/>
                <a:ext cx="78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09560" y="1633680"/>
                <a:ext cx="5223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5318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03640" y="1571760"/>
                <a:ext cx="5745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218040" y="3024360"/>
                <a:ext cx="579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27240" y="2367000"/>
                <a:ext cx="730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24000" y="163044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098880" y="159876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14720" y="385272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192400" y="30672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216240" y="3041640"/>
                <a:ext cx="558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157560" y="4836960"/>
                <a:ext cx="784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586640" y="168768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2960" y="1527120"/>
                <a:ext cx="57492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92680" y="5170320"/>
                <a:ext cx="10634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94200" y="4654440"/>
                <a:ext cx="6732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60800" y="5626080"/>
                <a:ext cx="506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74640" y="1566720"/>
                <a:ext cx="6271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57360" y="3025800"/>
                <a:ext cx="5666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73320" y="157176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086280" y="3024360"/>
                <a:ext cx="8413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03960" y="1760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28680" y="2367000"/>
                <a:ext cx="729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39840" y="156060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98880" y="1511280"/>
                <a:ext cx="782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58920" y="382572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136600" y="304020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43240" y="3067200"/>
                <a:ext cx="5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92400" y="47419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157560" y="4808520"/>
                <a:ext cx="784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446960" y="1739880"/>
                <a:ext cx="782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288120" y="1738440"/>
                <a:ext cx="78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48120" y="517032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11840" y="4689360"/>
                <a:ext cx="6728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856040" y="5661000"/>
                <a:ext cx="785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1566720"/>
                <a:ext cx="5745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28840" y="3025800"/>
                <a:ext cx="82368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21120" y="157176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33720" y="3024360"/>
                <a:ext cx="9460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28680" y="2436840"/>
                <a:ext cx="729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9840" y="156060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098880" y="1511280"/>
                <a:ext cx="782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31920" y="3852720"/>
                <a:ext cx="784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09960" y="306720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103560" y="306720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02120" y="480852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391520" y="1768320"/>
                <a:ext cx="8953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288120" y="1789200"/>
                <a:ext cx="780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48120" y="517032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27600" y="4773600"/>
                <a:ext cx="8413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800600" y="5688000"/>
                <a:ext cx="898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9, 8 – 3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7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4:02:24Z</dcterms:modified>
  <cp:revision>78</cp:revision>
  <dc:subject/>
  <dc:title>Slide 1</dc:title>
</cp:coreProperties>
</file>